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20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9.png" ContentType="image/png"/>
  <Override PartName="/ppt/media/image13.wmf" ContentType="image/x-wmf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CE4-8005-4383-AA2C-89A30F13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E30-4FEC-4A87-837C-F1F8C915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877-4655-4B69-B039-D2E73228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D4A-4783-4E1C-8454-B0065131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BEF0-309C-4235-929B-1044F150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2AF-DF71-4CBB-9981-08A6D05E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5BAD-E712-42F1-A96E-89D2DA7C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41A-3109-4425-B46D-9D796B45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D84-D564-4504-BDFA-7976D1E4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7BB-34F7-4377-963C-83CFBB2C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ED79-83F5-4B47-AAFF-7F2F1C4B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409-3CAC-4BF5-9684-D2B876C2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6E5E-9DB6-4880-AD0F-23279F28A65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1"/>
          <p:cNvSpPr/>
          <p:nvPr/>
        </p:nvSpPr>
        <p:spPr>
          <a:xfrm>
            <a:off x="-263520" y="206280"/>
            <a:ext cx="94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Scénáře a rizika české energeti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ovéPole 1"/>
          <p:cNvSpPr/>
          <p:nvPr/>
        </p:nvSpPr>
        <p:spPr>
          <a:xfrm>
            <a:off x="1712520" y="757080"/>
            <a:ext cx="54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Vladimír Wag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Times New Roman"/>
              </a:rPr>
              <a:t>Ústav jaderné fyziky AV ČR, energetická komise AV Č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ovéPole 2"/>
          <p:cNvSpPr/>
          <p:nvPr/>
        </p:nvSpPr>
        <p:spPr>
          <a:xfrm>
            <a:off x="845640" y="1785960"/>
            <a:ext cx="423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2d2db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d2db9"/>
                </a:solidFill>
                <a:latin typeface="Times New Roman"/>
              </a:rPr>
              <a:t>Současná situace a přicházející změ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2d2db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d2db9"/>
                </a:solidFill>
                <a:latin typeface="Times New Roman"/>
              </a:rPr>
              <a:t>Dopad politiky EU a okolních stá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2d2db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d2db9"/>
                </a:solidFill>
                <a:latin typeface="Times New Roman"/>
              </a:rPr>
              <a:t>Přechodový rok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2d2db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d2db9"/>
                </a:solidFill>
                <a:latin typeface="Times New Roman"/>
              </a:rPr>
              <a:t>Rozhodující rok 20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2d2db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d2db9"/>
                </a:solidFill>
                <a:latin typeface="Times New Roman"/>
              </a:rPr>
              <a:t>Pravděpodobné scéná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2d2db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d2db9"/>
                </a:solidFill>
                <a:latin typeface="Times New Roman"/>
              </a:rPr>
              <a:t>Doporuče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" descr="Nové bloky elektrárny Neurath spuštěné v roce 2012. "/>
          <p:cNvPicPr/>
          <p:nvPr/>
        </p:nvPicPr>
        <p:blipFill>
          <a:blip r:embed="rId1"/>
          <a:stretch/>
        </p:blipFill>
        <p:spPr>
          <a:xfrm>
            <a:off x="168120" y="-18252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Nové bloky elektrárny Neurath spuštěné v roce 2012. "/>
          <p:cNvPicPr/>
          <p:nvPr/>
        </p:nvPicPr>
        <p:blipFill>
          <a:blip r:embed="rId2"/>
          <a:stretch/>
        </p:blipFill>
        <p:spPr>
          <a:xfrm>
            <a:off x="320760" y="-302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Nové bloky elektrárny Neurath spuštěné v roce 2012. "/>
          <p:cNvPicPr/>
          <p:nvPr/>
        </p:nvPicPr>
        <p:blipFill>
          <a:blip r:embed="rId3"/>
          <a:stretch/>
        </p:blipFill>
        <p:spPr>
          <a:xfrm>
            <a:off x="473040" y="122400"/>
            <a:ext cx="9720" cy="9360"/>
          </a:xfrm>
          <a:prstGeom prst="rect">
            <a:avLst/>
          </a:prstGeom>
          <a:ln w="0">
            <a:noFill/>
          </a:ln>
        </p:spPr>
      </p:pic>
      <p:sp>
        <p:nvSpPr>
          <p:cNvPr id="47" name="TextovéPole 4"/>
          <p:cNvSpPr/>
          <p:nvPr/>
        </p:nvSpPr>
        <p:spPr>
          <a:xfrm>
            <a:off x="2109960" y="646740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99"/>
                </a:solidFill>
                <a:latin typeface="Times New Roman"/>
              </a:rPr>
              <a:t>Pch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2"/>
          <p:cNvSpPr/>
          <p:nvPr/>
        </p:nvSpPr>
        <p:spPr>
          <a:xfrm>
            <a:off x="5983200" y="6397560"/>
            <a:ext cx="23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99"/>
                </a:solidFill>
                <a:latin typeface="Times New Roman"/>
              </a:rPr>
              <a:t>Jaderná elektrárna Temelí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4935600" y="3178080"/>
            <a:ext cx="125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99"/>
                </a:solidFill>
                <a:latin typeface="Times New Roman"/>
              </a:rPr>
              <a:t>Ralsko Ra-1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5" descr="Jaderná elektrárna Temelín má dva bloky VVER1000 (zdroj ČEZ)."/>
          <p:cNvPicPr/>
          <p:nvPr/>
        </p:nvPicPr>
        <p:blipFill>
          <a:blip r:embed="rId4"/>
          <a:stretch/>
        </p:blipFill>
        <p:spPr>
          <a:xfrm>
            <a:off x="4932360" y="3720960"/>
            <a:ext cx="3960720" cy="2654280"/>
          </a:xfrm>
          <a:prstGeom prst="rect">
            <a:avLst/>
          </a:prstGeom>
          <a:ln w="0">
            <a:noFill/>
          </a:ln>
        </p:spPr>
      </p:pic>
      <p:pic>
        <p:nvPicPr>
          <p:cNvPr id="51" name="Obrázek 13" descr="http://www.snizujeme.cz/wp-content/uploads/2014/01/FVE_Ralsko_Ra1a_web.jpg"/>
          <p:cNvPicPr/>
          <p:nvPr/>
        </p:nvPicPr>
        <p:blipFill>
          <a:blip r:embed="rId5"/>
          <a:stretch/>
        </p:blipFill>
        <p:spPr>
          <a:xfrm>
            <a:off x="6292800" y="1595520"/>
            <a:ext cx="259416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Obrázek 14" descr="C:\Users\Wagner\Downloads\EP_ENERGY_VTE_Pchery1.jpg"/>
          <p:cNvPicPr/>
          <p:nvPr/>
        </p:nvPicPr>
        <p:blipFill>
          <a:blip r:embed="rId6"/>
          <a:stretch/>
        </p:blipFill>
        <p:spPr>
          <a:xfrm>
            <a:off x="1001880" y="3738600"/>
            <a:ext cx="35766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ovéPole 1"/>
          <p:cNvSpPr/>
          <p:nvPr/>
        </p:nvSpPr>
        <p:spPr>
          <a:xfrm>
            <a:off x="496800" y="33336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Možnosti ukládání, decentralizace, chytré sítě, elektromobil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ovéPole 1"/>
          <p:cNvSpPr/>
          <p:nvPr/>
        </p:nvSpPr>
        <p:spPr>
          <a:xfrm>
            <a:off x="244440" y="941400"/>
            <a:ext cx="856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S růstem podílu fluktuujících decentralizovaných zdrojů → dramatický růst potřeby inteligentní regulace, ukládání energie,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Přechod od čistých (velkých) výrobců  a čistých spotřebitelů elektřiny k interakci velkého počtu subjektů, které zároveň produkují a spotřebovávají elektřin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Přechod od čistě decentralizované sítě k decentralizované – inteligentní sít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ovéPole 2"/>
          <p:cNvSpPr/>
          <p:nvPr/>
        </p:nvSpPr>
        <p:spPr>
          <a:xfrm>
            <a:off x="296280" y="5102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d60093"/>
                </a:solidFill>
                <a:latin typeface="Times New Roman"/>
              </a:rPr>
              <a:t>Co náš průmys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ovéPole 6"/>
          <p:cNvSpPr/>
          <p:nvPr/>
        </p:nvSpPr>
        <p:spPr>
          <a:xfrm>
            <a:off x="328680" y="5533920"/>
            <a:ext cx="862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Obrovská výzva i možnost, navázat na naše strojírenské a elektrotechnické tradice, naše silná závislost na automobilovém průmyslu → nutnost nezaspat start elektromo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Včasné zapojení do iniciativ průmyslu 4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ovéPole 3"/>
          <p:cNvSpPr/>
          <p:nvPr/>
        </p:nvSpPr>
        <p:spPr>
          <a:xfrm>
            <a:off x="256680" y="251316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d60093"/>
                </a:solidFill>
                <a:latin typeface="Times New Roman"/>
              </a:rPr>
              <a:t>Zapojení průmyslu 4.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ovéPole 1"/>
          <p:cNvSpPr/>
          <p:nvPr/>
        </p:nvSpPr>
        <p:spPr>
          <a:xfrm>
            <a:off x="250920" y="39466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d60093"/>
                </a:solidFill>
                <a:latin typeface="Times New Roman"/>
              </a:rPr>
              <a:t>Elektromobilit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ovéPole 2"/>
          <p:cNvSpPr/>
          <p:nvPr/>
        </p:nvSpPr>
        <p:spPr>
          <a:xfrm>
            <a:off x="244440" y="4384800"/>
            <a:ext cx="56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Možnost zlepšení ekologické situace ve velkých měste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K tomu vhodné ekologizovat produkci elektř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Rychlonabíjení. Stačí pět minut a elektromobil může zase jet dál. (Foto: ABB)"/>
          <p:cNvPicPr/>
          <p:nvPr/>
        </p:nvPicPr>
        <p:blipFill>
          <a:blip r:embed="rId1"/>
          <a:stretch/>
        </p:blipFill>
        <p:spPr>
          <a:xfrm>
            <a:off x="5940360" y="3414600"/>
            <a:ext cx="2733840" cy="2124360"/>
          </a:xfrm>
          <a:prstGeom prst="rect">
            <a:avLst/>
          </a:prstGeom>
          <a:ln w="0">
            <a:noFill/>
          </a:ln>
        </p:spPr>
      </p:pic>
      <p:sp>
        <p:nvSpPr>
          <p:cNvPr id="99" name="TextovéPole 4"/>
          <p:cNvSpPr/>
          <p:nvPr/>
        </p:nvSpPr>
        <p:spPr>
          <a:xfrm>
            <a:off x="285840" y="2952720"/>
            <a:ext cx="85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Zavedení metod průmyslu 4.0 do energetiky a výroby energetických zařízení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Inteligentní komunikace mezi velkým poč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Účastníků v energetické sí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ovéPole 1"/>
          <p:cNvSpPr/>
          <p:nvPr/>
        </p:nvSpPr>
        <p:spPr>
          <a:xfrm>
            <a:off x="2708280" y="979560"/>
            <a:ext cx="512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7c80"/>
                </a:solidFill>
                <a:latin typeface="Showcard Gothic"/>
              </a:rPr>
              <a:t>Dnes už nereáln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ovéPole 1"/>
          <p:cNvSpPr/>
          <p:nvPr/>
        </p:nvSpPr>
        <p:spPr>
          <a:xfrm>
            <a:off x="3002040" y="20304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ěkteré možné scéná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ovéPole 1"/>
          <p:cNvSpPr/>
          <p:nvPr/>
        </p:nvSpPr>
        <p:spPr>
          <a:xfrm>
            <a:off x="129240" y="793800"/>
            <a:ext cx="816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Scénář 1: </a:t>
            </a:r>
            <a:r>
              <a:rPr b="1" lang="cs-CZ" sz="1800" spc="-1" strike="noStrike">
                <a:solidFill>
                  <a:srgbClr val="d60093"/>
                </a:solidFill>
                <a:latin typeface="Times New Roman"/>
              </a:rPr>
              <a:t>Supernízkoemisní </a:t>
            </a: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– postavení většího počtu jaderných bloků, intenziv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   </a:t>
            </a: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budování obnovitelných zdrojů, úložiště energi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   </a:t>
            </a: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Česko by zásadně přispělo ke snížení emisí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   </a:t>
            </a: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Dnes už velmi nepravděpodobn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ovéPole 2"/>
          <p:cNvSpPr/>
          <p:nvPr/>
        </p:nvSpPr>
        <p:spPr>
          <a:xfrm>
            <a:off x="90360" y="3060720"/>
            <a:ext cx="880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Scénář 3: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d60093"/>
                </a:solidFill>
                <a:latin typeface="Times New Roman"/>
              </a:rPr>
              <a:t>Druhé Bavorsko </a:t>
            </a: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– postupný úbytek výkonu v jaderných a uhelných zdrojí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</a:t>
            </a: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spoléhání na větrné zdroje na severu Německa a plynov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</a:t>
            </a: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zdroje regulující síť u nás i v Německ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</a:t>
            </a: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Situace v Bavorsku ukáže, k čemu scénář ve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</a:t>
            </a: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Scénář pravděpodobný v případě pokračování současn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</a:t>
            </a: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nečin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ovéPole 3"/>
          <p:cNvSpPr/>
          <p:nvPr/>
        </p:nvSpPr>
        <p:spPr>
          <a:xfrm>
            <a:off x="69840" y="4840200"/>
            <a:ext cx="882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Scénář 4: </a:t>
            </a:r>
            <a:r>
              <a:rPr b="1" lang="cs-CZ" sz="1800" spc="-1" strike="noStrike">
                <a:solidFill>
                  <a:srgbClr val="d60093"/>
                </a:solidFill>
                <a:latin typeface="Times New Roman"/>
              </a:rPr>
              <a:t>Výpadek Dukovan už v roce 2025 </a:t>
            </a: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– třeba tlakem Rakouska a Německa – spol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 </a:t>
            </a: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s odstavenými uhelnými bloky ztráta přes 6 GW výkon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 </a:t>
            </a: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V případě nečinnosti a cestě k Bavorskému scénáři pove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 </a:t>
            </a: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k velkým nárokům na regulaci a import elektřin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ovéPole 5"/>
          <p:cNvSpPr/>
          <p:nvPr/>
        </p:nvSpPr>
        <p:spPr>
          <a:xfrm>
            <a:off x="69840" y="2043000"/>
            <a:ext cx="863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Scénář 2: </a:t>
            </a:r>
            <a:r>
              <a:rPr b="1" lang="cs-CZ" sz="1800" spc="-1" strike="noStrike">
                <a:solidFill>
                  <a:srgbClr val="d60093"/>
                </a:solidFill>
                <a:latin typeface="Times New Roman"/>
              </a:rPr>
              <a:t>ASEK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– poměrně široké rozmezí umožňující optimalizaci podle podmíne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  </a:t>
            </a: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nutnost výstavby jaderných bloků a úspěšný rozv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  </a:t>
            </a: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obnovitelných zdrojů a ukládání energ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ovéPole 1"/>
          <p:cNvSpPr/>
          <p:nvPr/>
        </p:nvSpPr>
        <p:spPr>
          <a:xfrm>
            <a:off x="755640" y="6066000"/>
            <a:ext cx="90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Je třeba nalézt optimum a ve všech scénářích zajistit bezpečné fungování našeho energetické – výzva pro všechny související ob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ovéPole 1"/>
          <p:cNvSpPr/>
          <p:nvPr/>
        </p:nvSpPr>
        <p:spPr>
          <a:xfrm>
            <a:off x="2613240" y="30312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 je třeba vyřešit a děl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ovéPole 2"/>
          <p:cNvSpPr/>
          <p:nvPr/>
        </p:nvSpPr>
        <p:spPr>
          <a:xfrm>
            <a:off x="536400" y="1476360"/>
            <a:ext cx="8137800" cy="42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Nutnost vyřešit financování jaderných bloků – do roku 2035 alespoň náhrada Dukov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601"/>
              </a:spcAft>
              <a:buClr>
                <a:srgbClr val="00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Nutnost vyřešit efektivní podporu obnovitelných zdroj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601"/>
              </a:spcAft>
              <a:buClr>
                <a:srgbClr val="00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Nutnost vyřešit efektivní podporu inteligentních sítí, decentralizované výroby a skladování energie (simulace efektivní regulace a spolupráce decentralizovaných – 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energetika 4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601"/>
              </a:spcAft>
              <a:buClr>
                <a:srgbClr val="00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Zajistit efektivní propojení se sousedy a celoevropskou sí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601"/>
              </a:spcAft>
              <a:buClr>
                <a:srgbClr val="00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Podpora rozvoje průmyslu v potřebných obor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601"/>
              </a:spcAft>
              <a:buClr>
                <a:srgbClr val="00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Podpora výzkumu a vývo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601"/>
              </a:spcAft>
              <a:buClr>
                <a:srgbClr val="00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Podpořit efektivně přechod k elektromobilitě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601"/>
              </a:spcAft>
              <a:buClr>
                <a:srgbClr val="00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Připravit se na překonání „kritických“ roků 2022 (odstavení řady uhelných bloků a německých jaderných) a 2035 (odstavení Dukov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601"/>
              </a:spcAft>
              <a:buClr>
                <a:srgbClr val="00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Nutnost podpořit potřebné změny i 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efektivní tarifní reform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ovéPole 3"/>
          <p:cNvSpPr/>
          <p:nvPr/>
        </p:nvSpPr>
        <p:spPr>
          <a:xfrm>
            <a:off x="393840" y="8222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Během dvou let od schválení ASEK se zatím udělalo velmi málo – ASEK pořád platí, ale zhoršují se podmínky pro jeho naplňování. 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Nutná transformace energetik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ovéPole 1"/>
          <p:cNvSpPr/>
          <p:nvPr/>
        </p:nvSpPr>
        <p:spPr>
          <a:xfrm>
            <a:off x="324000" y="576900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Vytvořit dlouhodobou shodu společnosti a politické reprezentace na české energetické koncepci – to umožní stabilitu a hlavně možnost čelit problémům a tlaku ze zahraničí </a:t>
            </a: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– pozitivní je jistá úroveň shod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ovéPole 1"/>
          <p:cNvSpPr/>
          <p:nvPr/>
        </p:nvSpPr>
        <p:spPr>
          <a:xfrm>
            <a:off x="3000600" y="33336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ituace v České repub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ovéPole 2"/>
          <p:cNvSpPr/>
          <p:nvPr/>
        </p:nvSpPr>
        <p:spPr>
          <a:xfrm>
            <a:off x="250920" y="793800"/>
            <a:ext cx="864216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2d2db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d2db9"/>
                </a:solidFill>
                <a:latin typeface="Times New Roman"/>
              </a:rPr>
              <a:t>Zásoby uhlí docházejí a pokud se nemají překročit těžební limity, tak je třeba poměrně velice rychle omezit jeho využívání pro produkci elektřin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2d2db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d2db9"/>
                </a:solidFill>
                <a:latin typeface="Times New Roman"/>
              </a:rPr>
              <a:t>Řada uhelných bloků bude odstavena kvůli nesplnění limitů na škodlivé emi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2d2db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d2db9"/>
                </a:solidFill>
                <a:latin typeface="Times New Roman"/>
              </a:rPr>
              <a:t>Možnosti vodních zdrojů už z dominantní části využ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2d2db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d2db9"/>
                </a:solidFill>
                <a:latin typeface="Times New Roman"/>
              </a:rPr>
              <a:t>Větrná mapa Česka je relativně velmi chudá (nemáme mořské pobřeží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2d2db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d2db9"/>
                </a:solidFill>
                <a:latin typeface="Times New Roman"/>
              </a:rPr>
              <a:t>Biomasa – omezené možnosti (konkurence potravinám a ekolog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2d2db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d2db9"/>
                </a:solidFill>
                <a:latin typeface="Times New Roman"/>
              </a:rPr>
              <a:t>Nejde o tak ekonomicky silný stát, velmi silná závislost na průmyslu a  exportu, větší sociální citlivost obyvatel ke zvyšování cen elektřin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2d2db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d2db9"/>
                </a:solidFill>
                <a:latin typeface="Times New Roman"/>
              </a:rPr>
              <a:t>Značné množství uhelné produkce elektřiny v okolí (Německo a Polsko) – škodlivé emise neznají hran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http://kostelnibriza.cz/wp-content/uploads/2010/10/P1260187.jpg"/>
          <p:cNvPicPr/>
          <p:nvPr/>
        </p:nvPicPr>
        <p:blipFill>
          <a:blip r:embed="rId1"/>
          <a:stretch/>
        </p:blipFill>
        <p:spPr>
          <a:xfrm>
            <a:off x="1258920" y="450684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http://i.idnes.cz/09/043/cl6/BMA2a93db_ztcenergy5.jpg"/>
          <p:cNvPicPr/>
          <p:nvPr/>
        </p:nvPicPr>
        <p:blipFill>
          <a:blip r:embed="rId2"/>
          <a:stretch/>
        </p:blipFill>
        <p:spPr>
          <a:xfrm>
            <a:off x="4356000" y="4506840"/>
            <a:ext cx="3535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ovéPole 1"/>
          <p:cNvSpPr/>
          <p:nvPr/>
        </p:nvSpPr>
        <p:spPr>
          <a:xfrm>
            <a:off x="2287800" y="4046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Dopad energetické politiky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ovéPole 2"/>
          <p:cNvSpPr/>
          <p:nvPr/>
        </p:nvSpPr>
        <p:spPr>
          <a:xfrm>
            <a:off x="292680" y="888840"/>
            <a:ext cx="8331120" cy="21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Tlak na snižování emisí škodlivin i oxidu uhličité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Tlak na odstoupení od uhlí (kromě Polska nespoléhá nikdo v budoucnu na uhlí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Tlak na zvýšení podílu obnovitelných zdroj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Tlak na elektromobilitu a decentralizaci energeti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Tlak na propojení evropské energeti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Velmi rozporný postoj k jaderné energe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Obrázek 1" descr=""/>
          <p:cNvPicPr/>
          <p:nvPr/>
        </p:nvPicPr>
        <p:blipFill>
          <a:blip r:embed="rId1"/>
          <a:stretch/>
        </p:blipFill>
        <p:spPr>
          <a:xfrm>
            <a:off x="2077920" y="3049560"/>
            <a:ext cx="4606920" cy="3179880"/>
          </a:xfrm>
          <a:prstGeom prst="rect">
            <a:avLst/>
          </a:prstGeom>
          <a:ln w="0">
            <a:noFill/>
          </a:ln>
        </p:spPr>
      </p:pic>
      <p:sp>
        <p:nvSpPr>
          <p:cNvPr id="60" name="Obdélník 1"/>
          <p:cNvSpPr/>
          <p:nvPr/>
        </p:nvSpPr>
        <p:spPr>
          <a:xfrm>
            <a:off x="1812960" y="6229440"/>
            <a:ext cx="513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Emisi oxidu uhličitého lze průběžně sledovat na stránkách na stránkách https://electricitymap.tmrow.c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ovéPole 3"/>
          <p:cNvSpPr/>
          <p:nvPr/>
        </p:nvSpPr>
        <p:spPr>
          <a:xfrm>
            <a:off x="1383120" y="230040"/>
            <a:ext cx="63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řed začátkem jara -  situace za poslední měsí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Obrázek 1" descr=""/>
          <p:cNvPicPr/>
          <p:nvPr/>
        </p:nvPicPr>
        <p:blipFill>
          <a:blip r:embed="rId1"/>
          <a:stretch/>
        </p:blipFill>
        <p:spPr>
          <a:xfrm>
            <a:off x="1687680" y="836640"/>
            <a:ext cx="5692680" cy="286056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2" descr=""/>
          <p:cNvPicPr/>
          <p:nvPr/>
        </p:nvPicPr>
        <p:blipFill>
          <a:blip r:embed="rId2"/>
          <a:stretch/>
        </p:blipFill>
        <p:spPr>
          <a:xfrm>
            <a:off x="1687680" y="3841920"/>
            <a:ext cx="573372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rázek 1" descr=""/>
          <p:cNvPicPr/>
          <p:nvPr/>
        </p:nvPicPr>
        <p:blipFill>
          <a:blip r:embed="rId1"/>
          <a:stretch/>
        </p:blipFill>
        <p:spPr>
          <a:xfrm>
            <a:off x="1476360" y="3789360"/>
            <a:ext cx="5722920" cy="287640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2" descr=""/>
          <p:cNvPicPr/>
          <p:nvPr/>
        </p:nvPicPr>
        <p:blipFill>
          <a:blip r:embed="rId2"/>
          <a:stretch/>
        </p:blipFill>
        <p:spPr>
          <a:xfrm>
            <a:off x="1476360" y="765000"/>
            <a:ext cx="5722920" cy="2876760"/>
          </a:xfrm>
          <a:prstGeom prst="rect">
            <a:avLst/>
          </a:prstGeom>
          <a:ln w="0">
            <a:noFill/>
          </a:ln>
        </p:spPr>
      </p:pic>
      <p:sp>
        <p:nvSpPr>
          <p:cNvPr id="66" name="TextovéPole 3"/>
          <p:cNvSpPr/>
          <p:nvPr/>
        </p:nvSpPr>
        <p:spPr>
          <a:xfrm>
            <a:off x="1069200" y="22860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ální podmínky pro fotovoltaiku – červen 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ovéPole 1"/>
          <p:cNvSpPr/>
          <p:nvPr/>
        </p:nvSpPr>
        <p:spPr>
          <a:xfrm>
            <a:off x="3109680" y="11592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řechodový rok 20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ovéPole 1"/>
          <p:cNvSpPr/>
          <p:nvPr/>
        </p:nvSpPr>
        <p:spPr>
          <a:xfrm>
            <a:off x="430200" y="631800"/>
            <a:ext cx="842472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Odstaveny všechny jaderné elektrárny v Německu (obrovský dopad hlavně na sousední Bavorsk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Odstaven značný počet starších uhelných bloků v regionu na základě nesplnění limitů na emise (i v Česku a Německ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Stále nebude postaveno spojení mezi severem a jihem Němec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Větrné elektrárny s celkovým výkonem 12 GW v Německu ztratí podporu (byla na 20 l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rázek 2" descr=""/>
          <p:cNvPicPr/>
          <p:nvPr/>
        </p:nvPicPr>
        <p:blipFill>
          <a:blip r:embed="rId1"/>
          <a:stretch/>
        </p:blipFill>
        <p:spPr>
          <a:xfrm>
            <a:off x="2662200" y="3246480"/>
            <a:ext cx="6192720" cy="342252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3"/>
          <p:cNvSpPr/>
          <p:nvPr/>
        </p:nvSpPr>
        <p:spPr>
          <a:xfrm>
            <a:off x="3851280" y="2760840"/>
            <a:ext cx="47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d60093"/>
                </a:solidFill>
                <a:latin typeface="Times New Roman"/>
              </a:rPr>
              <a:t>Odstavování uhelných bloků u ná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ovéPole 4"/>
          <p:cNvSpPr/>
          <p:nvPr/>
        </p:nvSpPr>
        <p:spPr>
          <a:xfrm>
            <a:off x="179280" y="3270240"/>
            <a:ext cx="253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Pokles dostupného výkonu 2015 - 202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až na 62 % původní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Důsledk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1) Konec export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2) Celková výroba stač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3) Problém s regulac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Nutno s tím počítat a připravit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ovéPole 5"/>
          <p:cNvSpPr/>
          <p:nvPr/>
        </p:nvSpPr>
        <p:spPr>
          <a:xfrm>
            <a:off x="7680600" y="276084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ovéPole 7"/>
          <p:cNvSpPr/>
          <p:nvPr/>
        </p:nvSpPr>
        <p:spPr>
          <a:xfrm>
            <a:off x="7756560" y="4422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rázek 1" descr=""/>
          <p:cNvPicPr/>
          <p:nvPr/>
        </p:nvPicPr>
        <p:blipFill>
          <a:blip r:embed="rId1"/>
          <a:stretch/>
        </p:blipFill>
        <p:spPr>
          <a:xfrm>
            <a:off x="4788000" y="2784600"/>
            <a:ext cx="4176720" cy="353700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2"/>
          <p:cNvSpPr/>
          <p:nvPr/>
        </p:nvSpPr>
        <p:spPr>
          <a:xfrm>
            <a:off x="1073520" y="414360"/>
            <a:ext cx="67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Možný průběh úbytku výkonu z prezentace 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předpokládaná Č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Obrázek 3" descr=""/>
          <p:cNvPicPr/>
          <p:nvPr/>
        </p:nvPicPr>
        <p:blipFill>
          <a:blip r:embed="rId2"/>
          <a:stretch/>
        </p:blipFill>
        <p:spPr>
          <a:xfrm>
            <a:off x="125280" y="2784600"/>
            <a:ext cx="4475160" cy="3537000"/>
          </a:xfrm>
          <a:prstGeom prst="rect">
            <a:avLst/>
          </a:prstGeom>
          <a:ln w="0">
            <a:noFill/>
          </a:ln>
        </p:spPr>
      </p:pic>
      <p:sp>
        <p:nvSpPr>
          <p:cNvPr id="77" name="TextovéPole 4"/>
          <p:cNvSpPr/>
          <p:nvPr/>
        </p:nvSpPr>
        <p:spPr>
          <a:xfrm>
            <a:off x="281880" y="1554120"/>
            <a:ext cx="76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Přesný průběh závisí na přístupu k ekologizaci a emisním limitů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V každém případě však do roku 2025 přijdeme o velkou část uhelných blok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V dalších letech do roku 2040 o témě všechny zbývajíc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ovéPole 1"/>
          <p:cNvSpPr/>
          <p:nvPr/>
        </p:nvSpPr>
        <p:spPr>
          <a:xfrm>
            <a:off x="1571400" y="33336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Zlomový rok 2035 – nutnost obměny zdroj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ovéPole 2"/>
          <p:cNvSpPr/>
          <p:nvPr/>
        </p:nvSpPr>
        <p:spPr>
          <a:xfrm>
            <a:off x="271440" y="938160"/>
            <a:ext cx="54356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Postupné odstavování Dukov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601"/>
              </a:spcAft>
              <a:buClr>
                <a:srgbClr val="00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Odstavení dalších uhelných zdroj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601"/>
              </a:spcAft>
              <a:buClr>
                <a:srgbClr val="00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ČEZ – po roce 2035 pouze tři velké uhelné blok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601"/>
              </a:spcAft>
              <a:buClr>
                <a:srgbClr val="00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Nutnost obměny velké části potřebné kapac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https://www.svetenergie.cz/cache/img/c3/--data--web--powerplant--dukovany--dukovany1.fitbox.x1280.y1280.r0.q85.nr1.me2.jpg"/>
          <p:cNvPicPr/>
          <p:nvPr/>
        </p:nvPicPr>
        <p:blipFill>
          <a:blip r:embed="rId1"/>
          <a:stretch/>
        </p:blipFill>
        <p:spPr>
          <a:xfrm>
            <a:off x="1992240" y="2516040"/>
            <a:ext cx="5048280" cy="3559320"/>
          </a:xfrm>
          <a:prstGeom prst="rect">
            <a:avLst/>
          </a:prstGeom>
          <a:ln w="0">
            <a:noFill/>
          </a:ln>
        </p:spPr>
      </p:pic>
      <p:sp>
        <p:nvSpPr>
          <p:cNvPr id="81" name="TextovéPole 2"/>
          <p:cNvSpPr/>
          <p:nvPr/>
        </p:nvSpPr>
        <p:spPr>
          <a:xfrm>
            <a:off x="971640" y="6221520"/>
            <a:ext cx="73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99"/>
                </a:solidFill>
                <a:latin typeface="Times New Roman"/>
              </a:rPr>
              <a:t>Teoreticky by bylo možné provozovat Dukovany až šedesát let, ale nejen vzhledem k politické situaci v našem okolí je to velmi nepravděpodobn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ovéPole 1"/>
          <p:cNvSpPr/>
          <p:nvPr/>
        </p:nvSpPr>
        <p:spPr>
          <a:xfrm>
            <a:off x="1483560" y="285840"/>
            <a:ext cx="57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ktualizovaná státní energetická koncep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ovéPole 2"/>
          <p:cNvSpPr/>
          <p:nvPr/>
        </p:nvSpPr>
        <p:spPr>
          <a:xfrm>
            <a:off x="352080" y="871560"/>
            <a:ext cx="68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Schválení aktualizace Státní energetické koncepce – 18. května 201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ovéPole 3"/>
          <p:cNvSpPr/>
          <p:nvPr/>
        </p:nvSpPr>
        <p:spPr>
          <a:xfrm>
            <a:off x="542160" y="1360440"/>
            <a:ext cx="7432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Základní té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Postupné odstoupení od využívání fosilních pal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Přechod k využívání nízkoemeisních zdrojů (jaderných a obnovitelný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Jaderné – velké, obnovitelné – decentralizované – inteligentní sít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Maximalizace využití úspor a zvyšování efek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ovéPole 4"/>
          <p:cNvSpPr/>
          <p:nvPr/>
        </p:nvSpPr>
        <p:spPr>
          <a:xfrm>
            <a:off x="480240" y="3174840"/>
            <a:ext cx="6985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Co je třeba udělat pro realizaci této koncep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Nutnost nalezení způsobu financování nízkoemisních zdroj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Times New Roman"/>
              </a:rPr>
              <a:t>Nalezení široké a stabilní podpory pro SEK (rozumět problemat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bdélník 5"/>
          <p:cNvSpPr/>
          <p:nvPr/>
        </p:nvSpPr>
        <p:spPr>
          <a:xfrm>
            <a:off x="324000" y="4221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d60093"/>
                </a:solidFill>
                <a:latin typeface="Times New Roman"/>
              </a:rPr>
              <a:t>Rok 2040 výroba elektřiny: 46 až 58 % jaderná energetika, z 18 až 25 % obnovitelné zdroje, z 11 až 21 % uhlí a zemní plyn z 5 až 15 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Obrázek 6" descr=""/>
          <p:cNvPicPr/>
          <p:nvPr/>
        </p:nvPicPr>
        <p:blipFill>
          <a:blip r:embed="rId1"/>
          <a:stretch/>
        </p:blipFill>
        <p:spPr>
          <a:xfrm>
            <a:off x="324000" y="4986360"/>
            <a:ext cx="2266920" cy="1538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Národní divadlo - fotovoltaická střecha"/>
          <p:cNvPicPr/>
          <p:nvPr/>
        </p:nvPicPr>
        <p:blipFill>
          <a:blip r:embed="rId2"/>
          <a:stretch/>
        </p:blipFill>
        <p:spPr>
          <a:xfrm>
            <a:off x="2732040" y="4970520"/>
            <a:ext cx="2346480" cy="1508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static.asb-portal.cz/buxus/images/cache/650xXXX/fotogaleria/fotogalerie/tzb/fotovoltaicka_elektrarna_na_strese_domu_fotoalbum/04-skrea-fotka-fv-system-do-big-image.jpg"/>
          <p:cNvPicPr/>
          <p:nvPr/>
        </p:nvPicPr>
        <p:blipFill>
          <a:blip r:embed="rId3"/>
          <a:stretch/>
        </p:blipFill>
        <p:spPr>
          <a:xfrm>
            <a:off x="5208480" y="4954680"/>
            <a:ext cx="2413080" cy="152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elekrárny"/>
          <p:cNvPicPr/>
          <p:nvPr/>
        </p:nvPicPr>
        <p:blipFill>
          <a:blip r:embed="rId4"/>
          <a:stretch/>
        </p:blipFill>
        <p:spPr>
          <a:xfrm>
            <a:off x="7756560" y="4954680"/>
            <a:ext cx="9921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15:08:42Z</dcterms:created>
  <dc:creator>Vladimír Wagner</dc:creator>
  <dc:description/>
  <dc:language>en-US</dc:language>
  <cp:lastModifiedBy>Hynek Beran</cp:lastModifiedBy>
  <dcterms:modified xsi:type="dcterms:W3CDTF">2018-03-16T14:45:00Z</dcterms:modified>
  <cp:revision>510</cp:revision>
  <dc:subject/>
  <dc:title>Bez nadpisu</dc:title>
</cp:coreProperties>
</file>